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30E43-E1E2-4007-8891-A339FE5E2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13716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34B99-4FC8-4766-90FB-1A3B82D25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3716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515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30EF8-85FB-4696-B076-7650DFF8F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53556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69988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137160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53556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569988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2A4C2-8470-426D-B59C-931424359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4FF36C-AC69-4FE9-87D9-470AFA967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4875CD-13C9-4A19-B0FD-AC98E5B49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0017CC-AA22-4D65-A3C3-AC9D73F58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DDEDBF-8422-4A5E-9396-855E0562F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06D804-52EA-4728-9C46-0BAF9CB5A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1447920"/>
            <a:ext cx="82296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9AF24C-EAEC-498D-ADFB-E8C3729CB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3716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6D93B6-0C4E-4BE7-8FB3-CEEB5F3C8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C5324-DBCF-46D1-AD3D-46C536C3C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515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26868F-B08D-423E-A341-8DC765176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3716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1E0B84-341D-4335-B364-EC5102BB3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13716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8E0083-9637-4A54-85E6-4D974B189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3716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515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5AC13F-8740-4E24-8052-41D909CC0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53556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69988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137160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53556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69988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C5BF7B-D157-48C4-83E1-785B91214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4A3CC-7DE8-4413-9FD6-8AF58C58C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F4D9A-44F5-4055-A3CF-8AA8D2E3D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B5CEA-267E-49F1-9C47-EB827C33D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1447920"/>
            <a:ext cx="82296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01870-3A96-45EE-B6A8-EAA11FA64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716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29749-F409-4340-81AC-35CDCA11C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515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041DD-C269-4A12-AD67-5AD8427C4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3716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75DEE-8805-400D-9F6E-2033856F5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17214-E8BA-4E09-9D5E-43AF5D5A4D3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03F68-8482-40D9-B69A-A66BD776961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ultura Cajamarca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grant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zo Mej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iano Ranill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Geografia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800600" y="1523880"/>
            <a:ext cx="4114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 cultura Cajamarca se asentó en el norte del Perú, en Cajamarca, desde 200 a.C hasta 1300 d.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04920" y="1371600"/>
            <a:ext cx="444816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Historico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581280" cy="385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teneció al INTERMEDIO TEMPRANO desde 200 d.C hasta 1300 d.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 1948, el investigador Henry Reichlen dividió la cultura Cajamarca en 5 etapa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4572000" y="1447920"/>
            <a:ext cx="349560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e3e3ff"/>
                </a:solidFill>
                <a:latin typeface="Arial"/>
              </a:rPr>
              <a:t>Económico</a:t>
            </a: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0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 producción agrícola destaca por la siembra de papa, trigo, cebada, maíz, oca, olluco, mashua, arracacha, quinua, cañihua, caña de azúcar y algodó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228600" y="4038480"/>
            <a:ext cx="2666880" cy="25909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6400800" y="4038480"/>
            <a:ext cx="2457360" cy="25909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3124080" y="4191120"/>
            <a:ext cx="3086280" cy="23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e3e3ff"/>
                </a:solidFill>
                <a:latin typeface="Arial"/>
              </a:rPr>
              <a:t>Cerámica</a:t>
            </a: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800600" y="1828800"/>
            <a:ext cx="4038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 cerámica de Cajamarca está hecha en base a la arcilla blanca llamada “caolín”, que sirve de fondo para las decoracion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0000002cbb[1]" descr=""/>
          <p:cNvPicPr/>
          <p:nvPr/>
        </p:nvPicPr>
        <p:blipFill>
          <a:blip r:embed="rId1"/>
          <a:stretch/>
        </p:blipFill>
        <p:spPr>
          <a:xfrm>
            <a:off x="609480" y="1981080"/>
            <a:ext cx="357192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Arquitectura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0" y="1371240"/>
            <a:ext cx="5105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han reconocido seis tipos distintos de asentamientos en Cajamarca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Pequeñas estructuras aislada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Grupos aislados de recintos aglutinado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Grupos de recintos de tamaño median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Grupos de canchones cercado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Canchones rectangulares aislado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Estructuras defensivas con fosas y murallas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5105520" y="2209680"/>
            <a:ext cx="3657600" cy="33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ma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4419720"/>
            <a:ext cx="82296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ma templado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, seco y soleado en el día y frío en la noche. Lluvias de diciembre a marzo y la temperatura media anual de 13.8° 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762120" y="1447920"/>
            <a:ext cx="3581280" cy="279864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5486400" y="1447920"/>
            <a:ext cx="3200400" cy="292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09480" y="2361960"/>
            <a:ext cx="7772400" cy="15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3e3ff"/>
                </a:solidFill>
                <a:latin typeface="Arial"/>
              </a:rPr>
              <a:t>Muchas gracias por su atencion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1T21:31:11Z</dcterms:created>
  <dc:creator>Mariano</dc:creator>
  <dc:description/>
  <dc:language>en-US</dc:language>
  <cp:lastModifiedBy>Mariano</cp:lastModifiedBy>
  <dcterms:modified xsi:type="dcterms:W3CDTF">2009-11-11T23:17:52Z</dcterms:modified>
  <cp:revision>3</cp:revision>
  <dc:subject/>
  <dc:title>Cultura Cajamarca</dc:title>
</cp:coreProperties>
</file>